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A12-BD73-4FD7-A9CA-CE35A282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7CF-D54F-4346-9753-77330FBA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1B6-916F-4EDC-806F-E7435CEF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C29-A574-4CCA-BE62-DD520434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98D-FB83-49AF-B0BC-2F80D091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A3E-DDDD-4359-9724-FE8610D9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185-9273-495F-8F21-358B2832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F5D-F6CB-4936-9B1D-EC1133E9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BEA-EE3A-47A1-A3A6-E58B7FFC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690-D18E-4071-8C26-75063F22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279-029D-4E50-B4CA-FB29DCB4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D40-DE24-47F7-87DB-C13D2466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9749-D0D3-4602-BF9E-52F2FB586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--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existent --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n’t seen it yet --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heard one --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pe…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mark what you don’t see…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rls…this could have been great for you.  You wasted a chance at an easy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7:17:30Z</dcterms:created>
  <dc:creator>nbdoe</dc:creator>
  <dc:description/>
  <dc:language>en-US</dc:language>
  <cp:lastModifiedBy>nbdoe</cp:lastModifiedBy>
  <dcterms:modified xsi:type="dcterms:W3CDTF">2007-05-09T17:17:40Z</dcterms:modified>
  <cp:revision>1</cp:revision>
  <dc:subject/>
  <dc:title>Election 2007 </dc:title>
</cp:coreProperties>
</file>